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981F9-64B7-4EE2-8824-2F0E1C4B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FAB07-2828-46B2-AD16-52B0B404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2FDE5-C471-44E1-B4F7-F47502299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FB097-1E94-4513-8D3C-B1B94D3F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4FD5-8C09-404D-B34E-EFA3434F8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0E4C-D399-40B6-866D-C9BBD67E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355B-D02B-4863-9267-6D447675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EB09-0150-488A-B954-ECE2303A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B865-6A42-45A9-A929-E5E3DF88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B5AA-04AF-45AA-B40E-728348E9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70E2-196E-44F7-AFAA-F9FDC8C0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CEEBE-1639-48F8-9FFC-A6E1F5B8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E4C8-E6BF-495F-857F-10E57697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AA7D-EB2F-4ADA-903C-53FA499A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5DEE-77D3-4A6F-8DFB-4DAB8A13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0646-EAFD-436A-A691-7433BA34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E314-12D6-4C64-AC81-DEFA08087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1A681-F6C4-41DA-9241-80F861CF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39AA6-4272-4A42-ACDF-1826DC6E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62318-5765-4F9D-8DA3-929FE860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89969-15B4-4E5C-8B75-7A4B7C11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2B243-9409-4881-9828-8C1D52E6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243DE-CDA8-42B5-A5B9-B97DCFF3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0E165-10FA-423E-9FA8-0C830469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2B1F-65D6-414A-9809-0A8AA6A3E297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9A19-96ED-420B-81EA-5A58EA4F2172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vsanz@anep.edu.uy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4695840" y="824040"/>
            <a:ext cx="2519280" cy="5331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137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Century Gothic"/>
                <a:ea typeface="Adobe Fan Heiti Std B"/>
              </a:rPr>
              <a:t>El </a:t>
            </a:r>
            <a:r>
              <a:rPr b="1" lang="es-ES" sz="2000" spc="-1" strike="noStrike">
                <a:solidFill>
                  <a:srgbClr val="002060"/>
                </a:solidFill>
                <a:latin typeface="Century Gothic"/>
                <a:ea typeface="Adobe Fan Heiti Std B"/>
              </a:rPr>
              <a:t>Consejo de Formación en Educación </a:t>
            </a:r>
            <a:r>
              <a:rPr b="0" lang="es-ES" sz="2000" spc="-1" strike="noStrike">
                <a:solidFill>
                  <a:srgbClr val="002060"/>
                </a:solidFill>
                <a:latin typeface="Century Gothic"/>
                <a:ea typeface="Adobe Fan Heiti Std B"/>
              </a:rPr>
              <a:t>a través del </a:t>
            </a:r>
            <a:r>
              <a:rPr b="0" i="1" lang="es-ES" sz="2000" spc="-1" strike="noStrike">
                <a:solidFill>
                  <a:srgbClr val="002060"/>
                </a:solidFill>
                <a:latin typeface="Century Gothic"/>
                <a:ea typeface="Adobe Fan Heiti Std B"/>
              </a:rPr>
              <a:t>Proyecto “La Práctica Pedagógica en entornos innovadores de aprendizaje” </a:t>
            </a:r>
            <a:r>
              <a:rPr b="0" lang="es-ES" sz="2000" spc="-1" strike="noStrike">
                <a:solidFill>
                  <a:srgbClr val="002060"/>
                </a:solidFill>
                <a:latin typeface="Century Gothic"/>
                <a:ea typeface="Adobe Fan Heiti Std B"/>
              </a:rPr>
              <a:t>tiene el agrado de invitarlo al </a:t>
            </a:r>
            <a:r>
              <a:rPr b="1" lang="es-ES" sz="2000" spc="-1" strike="noStrike">
                <a:solidFill>
                  <a:srgbClr val="002060"/>
                </a:solidFill>
                <a:latin typeface="Century Gothic"/>
                <a:ea typeface="Adobe Fan Heiti Std B"/>
              </a:rPr>
              <a:t>Laboratorio de Innovación: “La ciudad vista por sus docent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Century Gothic"/>
                <a:ea typeface="Adobe Fan Heiti Std B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Century Gothic"/>
                <a:ea typeface="Adobe Fan Heiti Std B"/>
              </a:rPr>
              <a:t>a cargo del </a:t>
            </a:r>
            <a:r>
              <a:rPr b="1" lang="es-ES" sz="2000" spc="-1" strike="noStrike">
                <a:solidFill>
                  <a:srgbClr val="002060"/>
                </a:solidFill>
                <a:latin typeface="Century Gothic"/>
                <a:ea typeface="Adobe Fan Heiti Std B"/>
              </a:rPr>
              <a:t>Dr. Ricard Hu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2060"/>
                </a:solidFill>
                <a:latin typeface="Century Gothic"/>
                <a:ea typeface="Adobe Fan Heiti Std B"/>
              </a:rPr>
              <a:t>Instituto de Creatividad e Innovaciones Educativ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2060"/>
                </a:solidFill>
                <a:latin typeface="Century Gothic"/>
                <a:ea typeface="Adobe Fan Heiti Std B"/>
              </a:rPr>
              <a:t>ICIE de la Universidad de Val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Century Gothic"/>
                <a:ea typeface="Adobe Fan Heiti Std B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entury Gothic"/>
                <a:ea typeface="Adobe Fan Heiti Std B"/>
              </a:rPr>
              <a:t>23 de agosto 2012, 13 a 17 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2060"/>
                </a:solidFill>
                <a:latin typeface="Century Gothic"/>
                <a:ea typeface="Adobe Fan Heiti Std B"/>
              </a:rPr>
              <a:t>IPES de CoDiCen, calle Asilo 3255, Monte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2060"/>
                </a:solidFill>
                <a:latin typeface="Century Gothic"/>
                <a:ea typeface="Adobe Fan Heiti Std B"/>
              </a:rPr>
              <a:t>Inscripciones: </a:t>
            </a:r>
            <a:r>
              <a:rPr b="0" lang="es-ES" sz="1400" spc="-1" strike="noStrike" u="sng">
                <a:solidFill>
                  <a:srgbClr val="666699"/>
                </a:solidFill>
                <a:uFillTx/>
                <a:latin typeface="Century Gothic"/>
                <a:ea typeface="Adobe Fan Heiti Std B"/>
                <a:hlinkClick r:id="rId2"/>
              </a:rPr>
              <a:t>vsanz@anep.edu.u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2060"/>
                </a:solidFill>
                <a:latin typeface="Century Gothic"/>
                <a:ea typeface="Adobe Fan Heiti Std B"/>
              </a:rPr>
              <a:t>Enviar: Nombre/Apellido, C.I., Centro de Formación Doc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mec"/>
          <p:cNvPicPr/>
          <p:nvPr/>
        </p:nvPicPr>
        <p:blipFill>
          <a:blip r:embed="rId3"/>
          <a:stretch/>
        </p:blipFill>
        <p:spPr>
          <a:xfrm>
            <a:off x="7072200" y="785880"/>
            <a:ext cx="1224000" cy="592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idie Formación Docente Uruguay"/>
          <p:cNvPicPr/>
          <p:nvPr/>
        </p:nvPicPr>
        <p:blipFill>
          <a:blip r:embed="rId4"/>
          <a:stretch/>
        </p:blipFill>
        <p:spPr>
          <a:xfrm>
            <a:off x="755640" y="620640"/>
            <a:ext cx="2952720" cy="968400"/>
          </a:xfrm>
          <a:prstGeom prst="rect">
            <a:avLst/>
          </a:prstGeom>
          <a:ln w="0">
            <a:noFill/>
          </a:ln>
        </p:spPr>
      </p:pic>
      <p:pic>
        <p:nvPicPr>
          <p:cNvPr id="113" name="8 Imagen" descr="CFE - negro fondo.jpg"/>
          <p:cNvPicPr/>
          <p:nvPr/>
        </p:nvPicPr>
        <p:blipFill>
          <a:blip r:embed="rId5"/>
          <a:stretch/>
        </p:blipFill>
        <p:spPr>
          <a:xfrm>
            <a:off x="3913200" y="765000"/>
            <a:ext cx="587520" cy="57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0T19:51:08Z</dcterms:created>
  <dc:creator>Direccion</dc:creator>
  <dc:description/>
  <dc:language>en-US</dc:language>
  <cp:lastModifiedBy>acer</cp:lastModifiedBy>
  <dcterms:modified xsi:type="dcterms:W3CDTF">2012-07-30T01:51:28Z</dcterms:modified>
  <cp:revision>110</cp:revision>
  <dc:subject/>
  <dc:title>Presentación de PowerPoint</dc:title>
</cp:coreProperties>
</file>